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6477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4"/>
          <p:cNvSpPr/>
          <p:nvPr/>
        </p:nvSpPr>
        <p:spPr>
          <a:xfrm>
            <a:off x="685800" y="1752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Arial"/>
              </a:rPr>
              <a:t>Use of virtual world environments to improve high school student oral and written proficiency in learning worl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2362320" y="48006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ra Jac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wiri561@duq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ider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f"/>
                </a:solidFill>
                <a:latin typeface="Arial"/>
              </a:rPr>
              <a:t>Computer requirements</a:t>
            </a: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f"/>
                </a:solidFill>
                <a:latin typeface="Arial"/>
              </a:rPr>
              <a:t>Second Life or Open Sim</a:t>
            </a: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f"/>
                </a:solidFill>
                <a:latin typeface="Arial"/>
              </a:rPr>
              <a:t>Time, energy and money</a:t>
            </a: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f"/>
                </a:solidFill>
                <a:latin typeface="Arial"/>
              </a:rPr>
              <a:t>Prebuilt locales vs. building </a:t>
            </a:r>
            <a:endParaRPr b="0" lang="en-US" sz="32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Koenraad, T. (2008). How can 3D virtual worlds contribute to language education? Focus on the Language Village format. </a:t>
            </a:r>
            <a:r>
              <a:rPr b="0" i="1" lang="en-US" sz="2400" spc="-1" strike="noStrike">
                <a:solidFill>
                  <a:srgbClr val="00264f"/>
                </a:solidFill>
                <a:latin typeface="Arial"/>
              </a:rPr>
              <a:t>Van Een Virtuele Variant Van Het Taaldorp (ViTAAL)</a:t>
            </a: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264f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, 1-3.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Salaberry, M. (2001). The use of technology for second language learning and teaching: A retrospective. </a:t>
            </a:r>
            <a:r>
              <a:rPr b="0" i="1" lang="en-US" sz="2400" spc="-1" strike="noStrike">
                <a:solidFill>
                  <a:srgbClr val="00264f"/>
                </a:solidFill>
                <a:latin typeface="Arial"/>
              </a:rPr>
              <a:t>The Modern Language Journal</a:t>
            </a: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264f"/>
                </a:solidFill>
                <a:latin typeface="Arial"/>
              </a:rPr>
              <a:t>85</a:t>
            </a: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, 39-56.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f"/>
                </a:solidFill>
                <a:latin typeface="Arial"/>
              </a:rPr>
              <a:t>Three-dimensional virtual worlds</a:t>
            </a:r>
            <a:endParaRPr b="0" lang="en-US" sz="4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f"/>
                </a:solidFill>
                <a:latin typeface="Arial"/>
              </a:rPr>
              <a:t>Avatar</a:t>
            </a:r>
            <a:endParaRPr b="0" lang="en-US" sz="4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f"/>
                </a:solidFill>
                <a:latin typeface="Arial"/>
              </a:rPr>
              <a:t>Second Life</a:t>
            </a:r>
            <a:endParaRPr b="0" lang="en-US" sz="4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f"/>
                </a:solidFill>
                <a:latin typeface="Arial"/>
              </a:rPr>
              <a:t>Opensimulator (Open Sim) </a:t>
            </a:r>
            <a:endParaRPr b="0" lang="en-US" sz="4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aps in Literatu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f"/>
                </a:solidFill>
                <a:latin typeface="Arial"/>
              </a:rPr>
              <a:t>Effect of virtual worlds on language learning</a:t>
            </a: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f"/>
                </a:solidFill>
                <a:latin typeface="Arial"/>
              </a:rPr>
              <a:t>Benefits of virtual world interaction</a:t>
            </a: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f"/>
                </a:solidFill>
                <a:latin typeface="Arial"/>
              </a:rPr>
              <a:t>Interactivity with language learning and virtual worlds</a:t>
            </a: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etical Framework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f"/>
                </a:solidFill>
                <a:latin typeface="Arial"/>
              </a:rPr>
              <a:t>Constructivist Theory</a:t>
            </a: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f"/>
                </a:solidFill>
                <a:latin typeface="Arial"/>
              </a:rPr>
              <a:t>Behaviorist Theory</a:t>
            </a:r>
            <a:endParaRPr b="0" lang="en-US" sz="36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Language Instruction and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1) Is increased technological sophistication correlated to increased effectiveness to achieve pedagogical objectiv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2) What technological attributes specific to the new technologies can be profitably exploited for pedagogical purpos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3) How can new technologies be successfully integrated into the curriculum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4) Do new technologies provide for an efficient use of human and material resourc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(Salaberry, 2001)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Language Instruction and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1) Is increased technological sophistication correlated to increased effectiveness to achieve pedagogical objectiv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Language Village pilot project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Koenraad, 2008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(Salaberry, 2001)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Language Instruction and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2) What technological attributes specific to the new technologies can be profitably exploited for pedagogical purpos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Second Life and OpenSim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(Salaberry, 2001)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Language Instruction and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3) How can new technologies be successfully integrated into the curriculum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Technology driven curriculum vs. Technology enhanced curriculum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(Salaberry, 2001)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Language Instruction and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4) Do new technologies provide for an efficient use of human and material resources?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Expense of Second Life and Open Sim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64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Time analysis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f"/>
                </a:solidFill>
                <a:latin typeface="Arial"/>
              </a:rPr>
              <a:t>(Salaberry, 2001)</a:t>
            </a: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50:23Z</dcterms:created>
  <dc:creator>Duquesne university</dc:creator>
  <dc:description/>
  <dc:language>en-US</dc:language>
  <cp:lastModifiedBy>Laura Jacob</cp:lastModifiedBy>
  <dcterms:modified xsi:type="dcterms:W3CDTF">2009-12-08T02:22:23Z</dcterms:modified>
  <cp:revision>12</cp:revision>
  <dc:subject/>
  <dc:title>PowerPoint Presentation</dc:title>
</cp:coreProperties>
</file>